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44E-F0A5-407D-9B1F-D5293900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306-B7BF-43FD-9803-42C631C5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EAE-4D89-47CE-A0D5-31C5EA8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D69-F65C-41DF-8405-E2734775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44E-85F0-4252-A36D-C9D69D40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2CC-C36F-4484-986D-43FD25EE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484-94A3-4E82-866D-4D753283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991-ADC6-47FC-87CA-816CA4C3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C09-E04A-4388-9EE3-899169F3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8BF-964A-467A-A168-0EA160C9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482-C8AD-42C5-84F6-AE3587C6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959-9750-44CC-A444-F440EAF4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405A-6FF0-4103-863B-1A436B8063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09280" y="476280"/>
            <a:ext cx="704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悲情时刻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08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35080" y="2998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无助的眼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3120" y="338040"/>
            <a:ext cx="304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的希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00600" y="411120"/>
            <a:ext cx="450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北川县中学搜寻到的遇难者遗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40920" y="2221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守望家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411720" y="33336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线生机，百倍努力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814760" y="7632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来自母亲的呐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27240" y="692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残骸中的手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47840" y="50760"/>
            <a:ext cx="47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悲伤的学生家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11360" y="103320"/>
            <a:ext cx="7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学校被震成一片废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3120" y="122400"/>
            <a:ext cx="801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母亲安慰被埋在废墟中的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842840" y="338040"/>
            <a:ext cx="481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甘肃陇南市民在露天避震场所睡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90920" y="368280"/>
            <a:ext cx="430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层高的住院部大楼瞬间垮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30280" y="842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我们的家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65200" y="2602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新生，希望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95520" y="150840"/>
            <a:ext cx="223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新生的力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47840" y="-20520"/>
            <a:ext cx="52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灾民们与外界联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10120" y="81000"/>
            <a:ext cx="13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早一点到达，多一份希望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76200" y="122400"/>
            <a:ext cx="462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市民踊跃献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35120" y="338040"/>
            <a:ext cx="49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总理灾区慰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805360"/>
            <a:ext cx="73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重庆上万学生露宿操场躲避余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977840" y="260280"/>
            <a:ext cx="54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温家宝在专机上研究布置抗震救灾工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01280" y="1620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来自台湾的祝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333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烛光点燃希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4240" y="1341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让我们为他们默默祈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55640" y="765000"/>
            <a:ext cx="799308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让我们伸出援助之手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6200" y="338040"/>
            <a:ext cx="73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拉住我的手，我们守望相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5120" y="5738760"/>
            <a:ext cx="54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街头遇难者的尸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5493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孩子，要挺住，一定会得救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3:08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33:49Z</dcterms:modified>
  <cp:revision>15</cp:revision>
  <dc:subject>主题班会课件(分28大类): http://shop62905894.taobao.com</dc:subject>
  <dc:title>主题班会课件(分28大类): http://shop62905894.taobao.com</dc:title>
</cp:coreProperties>
</file>